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7D7-5A9E-4340-9E0B-F872E6A7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2B5-4762-4551-BF3F-FCBBC1E0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9FA-574A-4A97-B89C-D49653D4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FDA-2F5E-4EFC-A8DA-BE6857CB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A2EA-8921-414B-BC32-E720E375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7541-BB3C-459A-8827-D29624BC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D05-D222-4859-804F-726E3C6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E7BD-05BF-490A-A89A-4815C32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1FAB-4A87-4A66-B580-D9EA643D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F88-224E-4B4E-A87F-928AF0B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366F-74DD-4A7B-9249-4C29411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B7A-A6AC-46E8-B967-3A57814D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3B5D-6601-4EFA-B503-E7E20B2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ED8-D33C-4A47-A3CA-7F56A7F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A35-628C-4E9A-B2A2-95E250B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40BA-BAF0-487B-9E0A-4E901DB9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BA07-BD97-4D59-92FB-C348CEB5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E9C-C340-4138-990D-FFA8490C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4F2-1011-40E1-BFD0-9147723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1C2-59E4-4C6F-BDA3-D98F3107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E8F-2057-4819-912D-FE7F0771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D15-626C-4FEE-A3AD-4241012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2CF-B4F7-42D7-8865-A8C6C535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73E-3D3D-4D6B-8857-78B0BF6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A78-853D-4D6B-9814-61C57ADAEA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68FB-89DE-4A39-BB43-5F1DDC2C36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Il problema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la comunicazione connette livelli di realtà diverse tra lor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5734080"/>
            <a:ext cx="259236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Ferdinando Sabati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L’interazione comunicativa non è solo codifica di messaggi e di comportamen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ma uno scambio reciproco d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INTENZIONI COMUNICATIVE TRA INDIVID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sollecitati 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BISOG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ASPET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2205000"/>
            <a:ext cx="2736720" cy="1584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R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MUNIC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5219640" y="1773360"/>
            <a:ext cx="2160720" cy="57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3789360"/>
            <a:ext cx="2160720" cy="576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SPETTA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3068640"/>
            <a:ext cx="1727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492360" y="2060640"/>
            <a:ext cx="1727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Il messaggio è indipendente da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Emittente e Ricevente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 livelli del MESSAGGI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924280"/>
            <a:ext cx="2376360" cy="10587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ECODIF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5796000" y="2924280"/>
            <a:ext cx="2448000" cy="10810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NTERPRETAZI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924280"/>
            <a:ext cx="2376360" cy="10810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ERCEZI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06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332000" y="2060640"/>
            <a:ext cx="3240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060640"/>
            <a:ext cx="2592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eorgia"/>
              </a:rPr>
              <a:t>La comunicazione nasce quando il linguaggio e gli strumenti che l’uomo usa si combinan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COMUNICAZI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capacità sofisticat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+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dominio sull’ambien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6560" y="257040"/>
            <a:ext cx="8079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4358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2421000"/>
            <a:ext cx="1511280" cy="914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codi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1413000"/>
            <a:ext cx="1441440" cy="64764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EG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565360"/>
            <a:ext cx="1441440" cy="576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GE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3716280"/>
            <a:ext cx="1441440" cy="5745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UO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1052640"/>
            <a:ext cx="1851120" cy="936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IMBOL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421000"/>
            <a:ext cx="1871640" cy="914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ON VERB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4076640"/>
            <a:ext cx="1871640" cy="9144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VERB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700280"/>
            <a:ext cx="79056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76720" y="285264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276720" y="2852640"/>
            <a:ext cx="7905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80000" y="148428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278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2781360"/>
            <a:ext cx="93672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907920"/>
            <a:ext cx="1346040" cy="122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CIBERNETICA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TEORIA D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ISTEMI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ANTROPOLOGI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421000"/>
            <a:ext cx="1441440" cy="12952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SICOLOGIA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ANTROPOLOGIA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ETOLOGIA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BIOLOGIA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SOCIOLOGIA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4508640"/>
            <a:ext cx="1368360" cy="122544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LINGUIST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16286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92360" y="285264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692000" y="4005360"/>
            <a:ext cx="142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1a"/>
                </a:solidFill>
                <a:latin typeface="Georgia"/>
              </a:rPr>
              <a:t>Quando nasce il concetto moderno di comunicazion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Negli anni 1940-1950 c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la Cibernetica 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l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Teoria dei sistem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 u="sng">
                <a:solidFill>
                  <a:srgbClr val="ffff00"/>
                </a:solidFill>
                <a:uFillTx/>
                <a:latin typeface="Georgia"/>
              </a:rPr>
              <a:t>Cosa è la cibernetica?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Studio matematico dei codici che definiscono le analogie tra fenomeni di differente natu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Georgia"/>
              </a:rPr>
              <a:t>(Shannon e Wien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ORIA DEI SIST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03280" y="907920"/>
            <a:ext cx="338472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907920"/>
            <a:ext cx="309564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565360"/>
            <a:ext cx="2663640" cy="1368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I CHIU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Fisic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eostati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565360"/>
            <a:ext cx="2663640" cy="1440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I APER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iologic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n omeostati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CETTO di COMPLESSITA’ ORGANIZZ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MPLESSO di ELEMENTI INTERAG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NELLA COMUNICAZIONE UMANA INTERAGISCONO PIANI COMUNICATIVI DIFFEREN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L’organismo vivente è un sistema aperto che si fonda su un equilibrio dinamico di flussi in entrata e in usc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Un sistema aperto si regge su un equilibrio instabile raggiungibile in diversi modi e da diverse condizioni inizi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20:36:09Z</dcterms:created>
  <dc:creator>Utente</dc:creator>
  <dc:description/>
  <dc:language>en-US</dc:language>
  <cp:lastModifiedBy>f.sabatino</cp:lastModifiedBy>
  <dcterms:modified xsi:type="dcterms:W3CDTF">2011-09-21T07:41:48Z</dcterms:modified>
  <cp:revision>39</cp:revision>
  <dc:subject/>
  <dc:title>Il problema come attualizzare la filosofia?</dc:title>
</cp:coreProperties>
</file>