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26A8-E9C1-4208-AF47-E4941EFDC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F38C5-98BA-48AF-BD89-31A32997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13E89-8283-456E-88C8-36E8B451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A7002-18E1-47F6-BA8F-EF9821481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2EEFE-FAE7-4EE1-A610-E4B4C4D71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4ABA6-8ECB-4551-A2B3-40B6586E5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6E522-BE5F-4391-B6D6-6088CF8BD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54874-07A4-45A3-B782-60171BF44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166F0-CE99-4AF9-A04A-93C821D20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CEB3A-DA25-4347-8DE5-D88C648C3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11B8B-1EB6-40B9-8A8F-9F0B3B91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DCE1E-E697-4A63-9D3B-D0B6ABBC3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4FBB3-7A86-4AE9-8B50-60FBD95E7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6EB3D-820D-49B9-BD9B-5406469F0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76ABD-2496-4DC0-BD68-8C2454953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F1637-F6A8-4160-8A1C-A0F134E6E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073FC-FC44-48D8-AC04-4C998BB39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D05B8-A63D-4A1F-A88F-309067C6F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32137-5B15-4B59-9735-06E8318F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DBF2-1C42-445A-AC5D-43276046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F4D63-1C5A-4483-B6BE-81E6BA7A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7E62-EF9B-4E3F-8C5B-AE2989498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54734-AD9B-4806-9817-BFB29896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F781-A37F-4756-9512-E9BB8CBD0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7DB0-81C0-4DBD-A9A5-F3C4D55158F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FAF5-9836-4A7E-9B95-5780874C1CF8}"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115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b7"/>
                </a:solidFill>
                <a:latin typeface="Arial Black"/>
              </a:rPr>
              <a:t>Teorie sulla motivazione al lavoro</a:t>
            </a:r>
            <a:r>
              <a:rPr b="1" lang="it-IT" sz="4800" spc="-1" strike="noStrike">
                <a:solidFill>
                  <a:srgbClr val="ffffb7"/>
                </a:solidFill>
                <a:latin typeface="Arial Black"/>
              </a:rPr>
              <a:t> </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539280" y="2060640"/>
            <a:ext cx="8209080" cy="4392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motivazione al lavoro può essere definita come la spinta interiore che porta l'individuo ad applicarsi con impegno nel lavoro</a:t>
            </a:r>
            <a:r>
              <a:rPr b="0" lang="it-IT" sz="3200" spc="-1" strike="noStrike">
                <a:solidFill>
                  <a:srgbClr val="ffffff"/>
                </a:solidFill>
                <a:latin typeface="Arial"/>
              </a:rPr>
              <a:t>. </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ll'origine del bisogno, avvertito come una tensione interiore, l'individuo ricerca in mezzi per poterlo soddisfare; quando il soggetto riesce a soddisfare il proprio bisogno rivaluta la situazione e verifica la presenza di nuovi ed ulteriori bisogni.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rof. Ferdinando Sabatino</a:t>
            </a:r>
            <a:endParaRPr b="0" lang="en-US" sz="1200" spc="-1" strike="noStrike">
              <a:solidFill>
                <a:srgbClr val="ffffff"/>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Teoria dei bisogni di Maslow</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teoria dei bisogni di Maslow sostiene che il comportamento della persona, anche sul lavoro, tende alla soddisfazione di bisogni ordinati secondo una precisa gerarchia, che egli ha indicato all'interno di una piramide. Partendo dal basso si distinguono le seguenti categorie di bisogni uman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isogni fisiologici</a:t>
            </a:r>
            <a:r>
              <a:rPr b="0" lang="it-IT" sz="2400" spc="-1" strike="noStrike">
                <a:solidFill>
                  <a:srgbClr val="ffffff"/>
                </a:solidFill>
                <a:latin typeface="Arial"/>
              </a:rPr>
              <a:t>, legati alla sopravvivenza immediata (respirare, bere, mangiare, riposare, muoversi); </a:t>
            </a:r>
            <a:endParaRPr b="0" lang="en-US" sz="2400" spc="-1" strike="noStrike">
              <a:solidFill>
                <a:srgbClr val="ffffff"/>
              </a:solidFill>
              <a:latin typeface="Arial"/>
            </a:endParaRPr>
          </a:p>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isogni di sicurezza</a:t>
            </a:r>
            <a:r>
              <a:rPr b="0" lang="it-IT" sz="2400" spc="-1" strike="noStrike">
                <a:solidFill>
                  <a:srgbClr val="ffffff"/>
                </a:solidFill>
                <a:latin typeface="Arial"/>
              </a:rPr>
              <a:t>, fisica ed emotiva, relativi alla sopravvivenza a lungo termine (libertà da pericoli, minacce e privazioni provocati da danni fisici, difficoltà economiche, malattia); </a:t>
            </a:r>
            <a:endParaRPr b="0" lang="en-US" sz="2400" spc="-1" strike="noStrike">
              <a:solidFill>
                <a:srgbClr val="ffffff"/>
              </a:solidFill>
              <a:latin typeface="Arial"/>
            </a:endParaRPr>
          </a:p>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isogno di amore e di appartenenza</a:t>
            </a:r>
            <a:r>
              <a:rPr b="0" lang="it-IT" sz="2400" spc="-1" strike="noStrike">
                <a:solidFill>
                  <a:srgbClr val="ffffff"/>
                </a:solidFill>
                <a:latin typeface="Arial"/>
              </a:rPr>
              <a:t>, cioè identificazione con il gruppo o l'azienda, e di un ambiente socievole e gradevole (relazioni affettive, accettazione da parte dei pari, riconoscimento come membro del gruppo, stare insieme) ; </a:t>
            </a:r>
            <a:endParaRPr b="0" lang="en-US" sz="2400" spc="-1" strike="noStrike">
              <a:solidFill>
                <a:srgbClr val="ffffff"/>
              </a:solidFill>
              <a:latin typeface="Arial"/>
            </a:endParaRPr>
          </a:p>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isogno di stima e autostima</a:t>
            </a:r>
            <a:r>
              <a:rPr b="0" lang="it-IT" sz="2400" spc="-1" strike="noStrike">
                <a:solidFill>
                  <a:srgbClr val="ffffff"/>
                </a:solidFill>
                <a:latin typeface="Arial"/>
              </a:rPr>
              <a:t> (riconoscimento da parte degli altri e rispetto di sé) ; </a:t>
            </a:r>
            <a:endParaRPr b="0" lang="en-US" sz="2400" spc="-1" strike="noStrike">
              <a:solidFill>
                <a:srgbClr val="ffffff"/>
              </a:solidFill>
              <a:latin typeface="Arial"/>
            </a:endParaRPr>
          </a:p>
          <a:p>
            <a:pPr marL="318960" indent="-3189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isogno di autorealizzazione</a:t>
            </a:r>
            <a:r>
              <a:rPr b="0" lang="it-IT"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comportamento dell'individuo è finalizzato ad appagare prima i bisogni di livello inferiore, la cui soddisfazione cessa di renderli motivanti e che fa emergere i bisogni gerarchicamente superiori. Questa teoria presenta alcuni lati problematici: ciascun individuo, infatti, differisce dagli altri ed avverte e soddisfa i bisogni con modalità differente. Ad esempio mentre per alcune persone sono sufficienti poche ore di sonno per riposare, altre hanno bisogno di molte più ore; mentre la maggior parte delle persone quando ha fame desidera mangiare, altre persone digiunano per soddisfare bisogni più elevat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ova scala di bisogni che l'uomo prova nei contesti di lavor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ono: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ffffff"/>
                </a:solidFill>
                <a:latin typeface="Arial"/>
              </a:rPr>
              <a:t>1. bisogni di consumo; </a:t>
            </a:r>
            <a:br>
              <a:rPr sz="2800"/>
            </a:br>
            <a:r>
              <a:rPr b="0" lang="it-IT" sz="2800" spc="-1" strike="noStrike">
                <a:solidFill>
                  <a:srgbClr val="ffffff"/>
                </a:solidFill>
                <a:latin typeface="Arial"/>
              </a:rPr>
              <a:t>2. bisogni di sicurezza; </a:t>
            </a:r>
            <a:br>
              <a:rPr sz="2800"/>
            </a:br>
            <a:r>
              <a:rPr b="0" lang="it-IT" sz="2800" spc="-1" strike="noStrike">
                <a:solidFill>
                  <a:srgbClr val="ffffff"/>
                </a:solidFill>
                <a:latin typeface="Arial"/>
              </a:rPr>
              <a:t>3. bisogni di socialità; </a:t>
            </a:r>
            <a:br>
              <a:rPr sz="2800"/>
            </a:br>
            <a:r>
              <a:rPr b="0" lang="it-IT" sz="2800" spc="-1" strike="noStrike">
                <a:solidFill>
                  <a:srgbClr val="ffffff"/>
                </a:solidFill>
                <a:latin typeface="Arial"/>
              </a:rPr>
              <a:t>4. bisogni di stima; </a:t>
            </a:r>
            <a:br>
              <a:rPr sz="2800"/>
            </a:br>
            <a:r>
              <a:rPr b="0" lang="it-IT" sz="2800" spc="-1" strike="noStrike">
                <a:solidFill>
                  <a:srgbClr val="ffffff"/>
                </a:solidFill>
                <a:latin typeface="Arial"/>
              </a:rPr>
              <a:t>5. bisogni di potere; </a:t>
            </a:r>
            <a:br>
              <a:rPr sz="2800"/>
            </a:br>
            <a:r>
              <a:rPr b="0" lang="it-IT" sz="2800" spc="-1" strike="noStrike">
                <a:solidFill>
                  <a:srgbClr val="ffffff"/>
                </a:solidFill>
                <a:latin typeface="Arial"/>
              </a:rPr>
              <a:t>6. bisogni di realizzazion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soddisfazione di un bisogno, definito come la carenza di un oggetto desiderato, può essere funzionale o disfunzionale all'appagamento di un altro bisogno.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d esempio l'appagamento del bisogno di potere può essere funzionale anche al bisogno di autorealizzazi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Teoria X e Teoria Y di Mc Gragor Douglas</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cGragor elaborò la teoria di Maslow applicandola al management. Egli rilevò che </a:t>
            </a:r>
            <a:r>
              <a:rPr b="0" lang="it-IT" sz="3200" spc="-1" strike="noStrike">
                <a:solidFill>
                  <a:srgbClr val="ffff00"/>
                </a:solidFill>
                <a:latin typeface="Arial"/>
              </a:rPr>
              <a:t>il comportamento del dirigente si modifica in relazione alla concezione che egli ha dell'uomo</a:t>
            </a:r>
            <a:r>
              <a:rPr b="0" lang="it-IT" sz="3200" spc="-1" strike="noStrike">
                <a:solidFill>
                  <a:srgbClr val="ffffff"/>
                </a:solidFill>
                <a:latin typeface="Arial"/>
              </a:rPr>
              <a:t>, distinguendolo in due modalità alle quali diede il nome di Teoria X e di Teoria 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 primo caso il dirigente ritenendo che l'uomo non ama lavorare ed è di natura indolente, pigro, portato a fare il meno possibile, esercita una leadership caratterizzata dall'autorità, dalla supervisione diretta, dal ricorso punizioni, perché solo in questo modo possono essere raggiunti gli obiettivi organizzativ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la teoria Y, invece, le persone amano lavorare, in quanto la soddisfazione sul lavoro è un valore importante, sono in grado di autogestirsi ed autodirigersi, sono responsabili ed attivi. In questo caso il dirigente ricorre alla delega, esercita una supervisione generale e ricorre ad incentivi positivi, elogi e riconosciment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30"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condo Mc Gragor </a:t>
            </a:r>
            <a:r>
              <a:rPr b="0" lang="it-IT" sz="2400" spc="-1" strike="noStrike">
                <a:solidFill>
                  <a:srgbClr val="ffff00"/>
                </a:solidFill>
                <a:latin typeface="Arial"/>
              </a:rPr>
              <a:t>il fatto che il lavoratore si comporti come delineato dalla teoria X, piuttosto che dalla teoria Y, dipende dalla sua possibilità di soddisfare i propri bisogni</a:t>
            </a:r>
            <a:r>
              <a:rPr b="0" lang="it-IT" sz="2400" spc="-1" strike="noStrike">
                <a:solidFill>
                  <a:srgbClr val="ffffff"/>
                </a:solidFill>
                <a:latin typeface="Arial"/>
              </a:rPr>
              <a:t>: se non riesce a soddisfare i propri bisogni di ordine inferiore, ossia quelli individuati da Maslow nelle categorie dei bisogni fisiologici e di sicurezza, e da Herzberg nei fattori igienici, tenderà a comportarsi come descritto dalla teoria X, mentre se riesce a soddisfare i propri bisogni di ordine superiore, identificati da Maslow nei bisogni di appartenenza, stima ed autorealizzazione, e da Herzberg nei fattori motivanti, si comporterà come descritto dalla teoria 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Schema riassuntivo</a:t>
            </a:r>
            <a:endParaRPr b="1" lang="en-US" sz="4400" spc="-1" strike="noStrike">
              <a:solidFill>
                <a:srgbClr val="ffffb7"/>
              </a:solidFill>
              <a:latin typeface="Arial Black"/>
            </a:endParaRPr>
          </a:p>
        </p:txBody>
      </p:sp>
      <p:pic>
        <p:nvPicPr>
          <p:cNvPr id="132" name="Picture 4" descr="bisogni"/>
          <p:cNvPicPr/>
          <p:nvPr/>
        </p:nvPicPr>
        <p:blipFill>
          <a:blip r:embed="rId1"/>
          <a:stretch/>
        </p:blipFill>
        <p:spPr>
          <a:xfrm>
            <a:off x="468360" y="1628640"/>
            <a:ext cx="8265960" cy="44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244440"/>
            <a:ext cx="8373960" cy="44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 </a:t>
            </a:r>
            <a:r>
              <a:rPr b="1" lang="it-IT" sz="4000" spc="-1" strike="noStrike">
                <a:solidFill>
                  <a:srgbClr val="ffffb7"/>
                </a:solidFill>
                <a:latin typeface="Arial Black"/>
              </a:rPr>
              <a:t>schema</a:t>
            </a:r>
            <a:endParaRPr b="1" lang="en-US" sz="4000" spc="-1" strike="noStrike">
              <a:solidFill>
                <a:srgbClr val="ffffb7"/>
              </a:solidFill>
              <a:latin typeface="Arial Black"/>
            </a:endParaRPr>
          </a:p>
        </p:txBody>
      </p:sp>
      <p:pic>
        <p:nvPicPr>
          <p:cNvPr id="101" name="Picture 4" descr="incentivi"/>
          <p:cNvPicPr/>
          <p:nvPr/>
        </p:nvPicPr>
        <p:blipFill>
          <a:blip r:embed="rId1"/>
          <a:stretch/>
        </p:blipFill>
        <p:spPr>
          <a:xfrm>
            <a:off x="457200" y="1125360"/>
            <a:ext cx="8229600" cy="52563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Teoria dell'energia psicologica di Argyris</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34" name="PlaceHolder 2"/>
          <p:cNvSpPr>
            <a:spLocks noGrp="1"/>
          </p:cNvSpPr>
          <p:nvPr>
            <p:ph/>
          </p:nvPr>
        </p:nvSpPr>
        <p:spPr>
          <a:xfrm>
            <a:off x="250920" y="1904760"/>
            <a:ext cx="859464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Un'ulteriore elaborazione fu prodotta da Chris </a:t>
            </a:r>
            <a:r>
              <a:rPr b="0" lang="it-IT" sz="3200" spc="-1" strike="noStrike">
                <a:solidFill>
                  <a:srgbClr val="ffff00"/>
                </a:solidFill>
                <a:latin typeface="Arial"/>
              </a:rPr>
              <a:t>Argyris</a:t>
            </a:r>
            <a:r>
              <a:rPr b="0" lang="it-IT" sz="3200" spc="-1" strike="noStrike">
                <a:solidFill>
                  <a:srgbClr val="ffffff"/>
                </a:solidFill>
                <a:latin typeface="Arial"/>
              </a:rPr>
              <a:t> che </a:t>
            </a:r>
            <a:r>
              <a:rPr b="0" lang="it-IT" sz="3200" spc="-1" strike="noStrike">
                <a:solidFill>
                  <a:srgbClr val="ffff00"/>
                </a:solidFill>
                <a:latin typeface="Arial"/>
              </a:rPr>
              <a:t>definì la coesistenza all'interno del lavoro di bisogni personali dei lavoratori e di bisogni dell'organizzazione</a:t>
            </a:r>
            <a:r>
              <a:rPr b="0" lang="it-IT" sz="3200" spc="-1" strike="noStrike">
                <a:solidFill>
                  <a:srgbClr val="ffffff"/>
                </a:solidFill>
                <a:latin typeface="Arial"/>
              </a:rPr>
              <a:t> e che i lavoratori danno la preminenza al soddisfacimento dei propri bisogn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36" name="PlaceHolder 2"/>
          <p:cNvSpPr>
            <a:spLocks noGrp="1"/>
          </p:cNvSpPr>
          <p:nvPr>
            <p:ph/>
          </p:nvPr>
        </p:nvSpPr>
        <p:spPr>
          <a:xfrm>
            <a:off x="837720" y="2276280"/>
            <a:ext cx="8007480" cy="381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e situazioni in cui i due ordini di bisogni non coincidono, o sono addirittura in contrasto, si creano situazioni di conflitto, di tensione, di insoddisfazio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questo motivo secondo Argyris </a:t>
            </a:r>
            <a:r>
              <a:rPr b="0" lang="it-IT" sz="3200" spc="-1" strike="noStrike">
                <a:solidFill>
                  <a:srgbClr val="ffff00"/>
                </a:solidFill>
                <a:latin typeface="Arial"/>
              </a:rPr>
              <a:t>occorre che l'organizzazione sostenga la possibilità per i lavoratori di soddisfare i propri bisogni di ordine superiore e che sia realizzata una direzione ispirata alla teoria Y</a:t>
            </a:r>
            <a:r>
              <a:rPr b="0" lang="it-IT" sz="3200" spc="-1" strike="noStrike">
                <a:solidFill>
                  <a:srgbClr val="ffffff"/>
                </a:solidFill>
                <a:latin typeface="Arial"/>
              </a:rPr>
              <a:t>, poiché è l'unico modo per promuovere la crescita professionale ed umana del lavorato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40" name="PlaceHolder 2"/>
          <p:cNvSpPr>
            <a:spLocks noGrp="1"/>
          </p:cNvSpPr>
          <p:nvPr>
            <p:ph/>
          </p:nvPr>
        </p:nvSpPr>
        <p:spPr>
          <a:xfrm>
            <a:off x="323640" y="1904760"/>
            <a:ext cx="852156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Gravi sarebbero, infatti, le conseguenze nel caso in cui in presenza di lavoratori con personalità mature, fosse realizzata una direzione di carattere prescrittivo, autoritario, rigido e punitivo, in quanto porterebbe alla passività, alla dipendenza, alla frustrazione ed alla insoddisfazione professiona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questo motivo </a:t>
            </a:r>
            <a:r>
              <a:rPr b="0" lang="it-IT" sz="3200" spc="-1" strike="noStrike">
                <a:solidFill>
                  <a:srgbClr val="ffff00"/>
                </a:solidFill>
                <a:latin typeface="Arial"/>
              </a:rPr>
              <a:t>occorre coniugare lo stile direttivo alle caratteristiche del lavoratore valorizzandone i talenti, gli interessi e le abilità</a:t>
            </a:r>
            <a:r>
              <a:rPr b="0" lang="it-IT" sz="3200" spc="-1" strike="noStrike">
                <a:solidFill>
                  <a:srgbClr val="ffffff"/>
                </a:solidFill>
                <a:latin typeface="Arial"/>
              </a:rPr>
              <a:t>: solo così la crescita della persona si coniuga ad un aumento della produttività del lavoratore e anche l'organizzazione ne trae benefic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Teoria dell'aspettativa-valenza di Vroom</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44" name="PlaceHolder 2"/>
          <p:cNvSpPr>
            <a:spLocks noGrp="1"/>
          </p:cNvSpPr>
          <p:nvPr>
            <p:ph/>
          </p:nvPr>
        </p:nvSpPr>
        <p:spPr>
          <a:xfrm>
            <a:off x="323640" y="1904760"/>
            <a:ext cx="852156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Vroom </a:t>
            </a:r>
            <a:r>
              <a:rPr b="0" lang="it-IT" sz="3200" spc="-1" strike="noStrike">
                <a:solidFill>
                  <a:srgbClr val="ffff00"/>
                </a:solidFill>
                <a:latin typeface="Arial"/>
              </a:rPr>
              <a:t>la motivazione è correlata a due fattori: la valenza</a:t>
            </a:r>
            <a:r>
              <a:rPr b="0" lang="it-IT" sz="3200" spc="-1" strike="noStrike">
                <a:solidFill>
                  <a:srgbClr val="ffffff"/>
                </a:solidFill>
                <a:latin typeface="Arial"/>
              </a:rPr>
              <a:t>, che è riferita alla importanza che la persona dà al conseguimento di un obiettivo, e </a:t>
            </a:r>
            <a:r>
              <a:rPr b="0" lang="it-IT" sz="3200" spc="-1" strike="noStrike">
                <a:solidFill>
                  <a:srgbClr val="ffff00"/>
                </a:solidFill>
                <a:latin typeface="Arial"/>
              </a:rPr>
              <a:t>la aspettativa</a:t>
            </a:r>
            <a:r>
              <a:rPr b="0" lang="it-IT" sz="3200" spc="-1" strike="noStrike">
                <a:solidFill>
                  <a:srgbClr val="ffffff"/>
                </a:solidFill>
                <a:latin typeface="Arial"/>
              </a:rPr>
              <a:t>, che è costituita dalle probabilità riconosciuta dalla persona di riuscire a conseguirlo. La motivazione deriva quindi da questa formula:</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66"/>
                </a:solidFill>
                <a:latin typeface="Arial"/>
              </a:rPr>
              <a:t>Motivazione = Valenza X Aspettativ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46" name="PlaceHolder 2"/>
          <p:cNvSpPr>
            <a:spLocks noGrp="1"/>
          </p:cNvSpPr>
          <p:nvPr>
            <p:ph/>
          </p:nvPr>
        </p:nvSpPr>
        <p:spPr>
          <a:xfrm>
            <a:off x="250920" y="1904760"/>
            <a:ext cx="859464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seguentemente a questo principio deriva che per favorire la motivazione del personale occorre definire con chiarezza il rapporto tra il lavoro e il conseguimento dell'obiettivo ed inoltre, il comportamento considerato positivo, ossia la performance di buona qualità, dovrebbe essere soggetta ad un prem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48" name="PlaceHolder 2"/>
          <p:cNvSpPr>
            <a:spLocks noGrp="1"/>
          </p:cNvSpPr>
          <p:nvPr>
            <p:ph/>
          </p:nvPr>
        </p:nvSpPr>
        <p:spPr>
          <a:xfrm>
            <a:off x="837720" y="2060280"/>
            <a:ext cx="8007480" cy="403524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valenza può essere positiva (quando si vuole qualcosa) o negativa (quando non si vuole qualcosa), mentre la aspettativa può avere solo valore positivo, infatti se la persona non riconosce alcuna probabilità di conseguire l'obiettivo la aspettativa è pari a 0. Questa teoria è stata ulteriormente elaborata ed è stato incluso un ulteriore fattore: il valore della ricompensa, che si riferisce alla ricompensa derivante dal conseguimento dell'obiettivo. La formula della motivazione diviene quindi la seguent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tivazione = Valenza X Aspettativa X Valo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837720" y="1268280"/>
            <a:ext cx="8007480" cy="4827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sistema motivazionale può essere inteso come l'insieme dei bisogni percepiti con varia intensità e le relazioni fra questi e il comportamento.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definire quali siano gli elementi che governano la motivazione sono state formulate numerose teori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Teoria monistica di Taylor</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04" name="PlaceHolder 2"/>
          <p:cNvSpPr>
            <a:spLocks noGrp="1"/>
          </p:cNvSpPr>
          <p:nvPr>
            <p:ph/>
          </p:nvPr>
        </p:nvSpPr>
        <p:spPr>
          <a:xfrm>
            <a:off x="394920" y="1700280"/>
            <a:ext cx="8450280" cy="446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condo Frederic Taylor occorre stimolare la motivazione del lavoratore mediante sistemi che incentivino la produttività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e soluzioni da lui proposte hanno riguardato l'introduzione del lavoro a cottimo, della partecipazione ai profitti, la partecipazione al risparm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26560" y="1341000"/>
            <a:ext cx="8007480" cy="47545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esti sistemi vengono detti monastici e sono rivolti a garantire che ogni lavoratore impieghi sul lavoro tutte le sue energie al fine di mantenere ed incrementare la produttivit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3640" y="1700280"/>
            <a:ext cx="8583480" cy="4395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umentando la produttività infatti il lavoratore può aumentare il proprio stipendio, riuscendo così ad aumentare la propria autostima ed il proprio status. La motivazione procurata dal denaro tuttavia è discutibi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b7"/>
                </a:solidFill>
                <a:latin typeface="Arial Black"/>
              </a:rPr>
              <a:t>Teoria igienico-motivante di Herzberg</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08" name="PlaceHolder 2"/>
          <p:cNvSpPr>
            <a:spLocks noGrp="1"/>
          </p:cNvSpPr>
          <p:nvPr>
            <p:ph/>
          </p:nvPr>
        </p:nvSpPr>
        <p:spPr>
          <a:xfrm>
            <a:off x="250920" y="1904760"/>
            <a:ext cx="859464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Herzberg e colleghi nel 1959 effettuarono uno studio finalizzato ad approfondire le modalità con cui i bisogni di stima e di autorealizzazione si sviluppano. Da questo studio emerse che esistono due ordini di fattori che determinano la insoddisfazione e la soddisfazione del lavorato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10" name="PlaceHolder 2"/>
          <p:cNvSpPr>
            <a:spLocks noGrp="1"/>
          </p:cNvSpPr>
          <p:nvPr>
            <p:ph/>
          </p:nvPr>
        </p:nvSpPr>
        <p:spPr>
          <a:xfrm>
            <a:off x="323640" y="1904760"/>
            <a:ext cx="8521560" cy="4190760"/>
          </a:xfrm>
          <a:prstGeom prst="rect">
            <a:avLst/>
          </a:prstGeom>
          <a:noFill/>
          <a:ln w="0">
            <a:noFill/>
          </a:ln>
        </p:spPr>
        <p:txBody>
          <a:bodyPr anchor="t">
            <a:normAutofit fontScale="96000"/>
          </a:bodyPr>
          <a:p>
            <a:pPr marL="32904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primi sono detti </a:t>
            </a:r>
            <a:r>
              <a:rPr b="0" lang="it-IT" sz="2800" spc="-1" strike="noStrike">
                <a:solidFill>
                  <a:srgbClr val="ffff00"/>
                </a:solidFill>
                <a:latin typeface="Arial"/>
              </a:rPr>
              <a:t>fattori igienici</a:t>
            </a:r>
            <a:r>
              <a:rPr b="0" lang="it-IT" sz="2800" spc="-1" strike="noStrike">
                <a:solidFill>
                  <a:srgbClr val="ffffff"/>
                </a:solidFill>
                <a:latin typeface="Arial"/>
              </a:rPr>
              <a:t>: questi fattori sono quelli che non motivano, ma che se non trovano soddisfazione producono malcontento ed insoddisfazione. Fanno parte di questa categoria la supervisione da parte dei superiori, le politiche e l'amministrazione dell'azienda, le condizioni di lavoro (orario, riposo settimanale, stipendio), le relazioni con i superiori, i pari ed i subordinati, lo status, la sicurezza del lavoro e gli effetti sulla propria vita persona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seconda categoria comprende i </a:t>
            </a:r>
            <a:r>
              <a:rPr b="0" lang="it-IT" sz="3200" spc="-1" strike="noStrike">
                <a:solidFill>
                  <a:srgbClr val="ffff00"/>
                </a:solidFill>
                <a:latin typeface="Arial"/>
              </a:rPr>
              <a:t>fattori motivanti</a:t>
            </a:r>
            <a:r>
              <a:rPr b="0" lang="it-IT" sz="3200" spc="-1" strike="noStrike">
                <a:solidFill>
                  <a:srgbClr val="ffffff"/>
                </a:solidFill>
                <a:latin typeface="Arial"/>
              </a:rPr>
              <a:t> e sono quelli che motivano la persona al lavoro. Questi elementi appagano dei bisogni superiori e portano la persona ad una maggiore produttività. Rientrano in questa categoria il riconoscimento, la responsabilità, la crescita professionale, risultati ottenuti, il lavoro in sé, l'avanzamento nella carrie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09:42:30Z</dcterms:created>
  <dc:creator>f.sabatino</dc:creator>
  <dc:description/>
  <dc:language>en-US</dc:language>
  <cp:lastModifiedBy>Utente</cp:lastModifiedBy>
  <dcterms:modified xsi:type="dcterms:W3CDTF">2011-03-23T11:42:07Z</dcterms:modified>
  <cp:revision>16</cp:revision>
  <dc:subject/>
  <dc:title>teorie sulla motivazione al lavoro </dc:title>
</cp:coreProperties>
</file>