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4BF-C49E-44A7-81DC-02AF638B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A04-195C-413C-91AA-AE1A16F3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C44-90CB-4DAF-8DB2-0BD74B79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FA9D-F083-4C1C-B320-80C19389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303A-CD59-4F7E-B070-D7FD0F16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D03F-F590-4191-AF2C-702F878D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E5A8-5AE0-4981-A40A-F98FDFE4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49CE-CF96-4B17-BE85-A8F9EAFF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62EE-2799-4AFD-B970-15E57F5D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BD10-9A84-4219-A106-9EC38182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F8C5-602B-422B-B88F-900AEACF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642-5091-4C8A-9224-0604EE73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10AA-F8CA-4625-96F5-C9E2619B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7565-147A-4539-92A5-96AEA21C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09D1-9287-4B73-8A41-DAB28CFD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BFDA-25FC-4FF0-8EEC-229C96E9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5902-0266-4978-A653-258B1A20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E82-02CD-4EC2-AC0C-E8CA8FCB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4CB-1E94-422A-8C90-382AA554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427-E53A-4879-8B63-7F4C2061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318-D975-4DC8-92A7-821849EF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E5D-6365-4246-B4A5-CEC1999D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D7B-CCF9-46AA-A4C4-55C57F48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368-B063-47D4-8956-4F39E9D4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7A88-C872-497C-8D01-D00FD783C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9C17-439D-403C-81BC-9DA2164C7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b7"/>
                </a:solidFill>
                <a:latin typeface="Arial Black"/>
              </a:rPr>
              <a:t>Toyotismo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0560" y="169992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oyota Produc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etodo di organizzazione della produ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QUESTO E’ 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etodo alternativo alla produzione di mas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el sistema fordi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of. Ferdinando Sabat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Qualità prevede sei </a:t>
            </a:r>
            <a:r>
              <a:rPr b="0" lang="it-IT" sz="3200" spc="-1" strike="noStrike" u="sng">
                <a:solidFill>
                  <a:srgbClr val="ffffff"/>
                </a:solidFill>
                <a:uFillTx/>
                <a:latin typeface="Arial"/>
              </a:rPr>
              <a:t>dimensioni integrat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alità tecnica (prodotti+serviz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alità relazionale (comunicazio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alità ambientale (modernità delle strut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alità dell’immagine (credibilità dell’azien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alità economica (prezzi e spe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alità organizzativa (le strategie, la leadershi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produzione snella (Lean Produ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iguar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eorgia"/>
              </a:rPr>
              <a:t>▪ </a:t>
            </a:r>
            <a:r>
              <a:rPr b="0" lang="it-IT" sz="3200" spc="-1" strike="noStrike">
                <a:solidFill>
                  <a:srgbClr val="ffffff"/>
                </a:solidFill>
                <a:latin typeface="Georgia"/>
              </a:rPr>
              <a:t>Eliminazione degli stock e delle giac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eorgia"/>
              </a:rPr>
              <a:t>È il principio d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Georgia"/>
              </a:rPr>
              <a:t>JUST IN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eorgi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eorgia"/>
              </a:rPr>
              <a:t>È  un sistema di governo del flusso logistico basato sul “produrre solo quando ser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eorgi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ffff"/>
                </a:solidFill>
                <a:uFillTx/>
                <a:latin typeface="Georgia"/>
              </a:rPr>
              <a:t>Quando si manifesta la dom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o metodo di produzione è definito di tipo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rre solo ciò che può essere venduto in tempi bre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pposto ai sistemi tradizionali defini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rre prodotti finiti per il magazzino in attesa di essere vendu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765000"/>
            <a:ext cx="8007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l  sistema PULL utilizza lo stumento 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KANB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istema basato sulla standardizzazione delle unità prodotte e traspor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’uso del cartellino che accompagna il contenitore pi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l principio del Just in time è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LA POLITICA DELLE GESTIONI DELLE SCORTE COORDINANDO I TEMPI DI EFFETTIVA NECESSITA’ DEI MATERIALI SULLA LINEA PRODUT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rincipio della produzione snel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PIU’ IL PROCESSO E’ CORTO NELLA SOMMA DEI PROCESSI DI PROGETTAZIONE E PRODUZIONE; PIU’ L’INDUSTRIA CON PRODOTTI E SERVIZI RISULTA VINCENTE SUL MERC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o sistema ha introdotto anche 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QUALIT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o totale della qualit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che impedisce che si verifichino difetti nel prodotto eliminando le cause che li producono attraverso un affinamento del ciclo produttivo in cui tutti sono coinvol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o affinamento del ciclo produttivo è possibile perch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ESTRAM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o elementi centrali del sistema produttivo e organizza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zione e Addestramento si concentrano su un sistema organizzativo basato non sulle FUNZIONI ma 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O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SOGNI DEL CL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 “Circoli della qualità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502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asce negli anni ’50 in Giappone nelle indust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oyota grazie all’ingegnere Taiichi Oh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PRINCIPIO DI BAS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are di più con men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PRINCIPI GENERALI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eorgia"/>
              </a:rPr>
              <a:t>▪</a:t>
            </a:r>
            <a:r>
              <a:rPr b="0" lang="it-IT" sz="2800" spc="-1" strike="noStrike">
                <a:solidFill>
                  <a:srgbClr val="ffffff"/>
                </a:solidFill>
                <a:latin typeface="Georgia"/>
              </a:rPr>
              <a:t>MENO SPRECHI (principio del Mu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eorgia"/>
              </a:rPr>
              <a:t>▪</a:t>
            </a:r>
            <a:r>
              <a:rPr b="0" lang="it-IT" sz="2800" spc="-1" strike="noStrike">
                <a:solidFill>
                  <a:srgbClr val="ffffff"/>
                </a:solidFill>
                <a:latin typeface="Georgia"/>
              </a:rPr>
              <a:t>BISOGNI DEL CLIENTE (principio qualità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eorgia"/>
              </a:rPr>
              <a:t>▪</a:t>
            </a:r>
            <a:r>
              <a:rPr b="0" lang="it-IT" sz="2800" spc="-1" strike="noStrike">
                <a:solidFill>
                  <a:srgbClr val="ffffff"/>
                </a:solidFill>
                <a:latin typeface="Georgia"/>
              </a:rPr>
              <a:t>PRODUZIONE SNELLA (Lean Produc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475920"/>
            <a:ext cx="80074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o principio: il “mud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sogna evitare otto tipi di sprech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sovra-lavor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sovra-produ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ri-lavor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) Giacen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) Intellet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) Traspo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) Movi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) att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475920"/>
            <a:ext cx="80074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raggiungere il muda si utilizza un approc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ato sul principio 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GLIORAMENTO CONTINUO A PICCOLI PASS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è 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AIZ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333360"/>
            <a:ext cx="80074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mbiamento di mentalit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ddisfare i bisogni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re il valore per i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Coinvolgere il personale nell’assicurare i bisogni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re il flusso del val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475920"/>
            <a:ext cx="8007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“qualità” deve focalizzarsi s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763640" y="1125360"/>
            <a:ext cx="3240000" cy="151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1125360"/>
            <a:ext cx="2881440" cy="151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2924280"/>
            <a:ext cx="1655640" cy="136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OT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08720" y="3573360"/>
            <a:ext cx="716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88000" y="2852640"/>
            <a:ext cx="1727280" cy="1441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SOGN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’obiettivo qualità si definisce su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ETTATIVE DEL CL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 riguardan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BASSI C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QUALITA’ ELEV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RISPOSTA FLESSIB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692280"/>
            <a:ext cx="80074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“bisogni” del cliente sono di tre tip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) Bisogni impliciti </a:t>
            </a:r>
            <a:r>
              <a:rPr b="0" lang="en-US" sz="3600" spc="-1" strike="noStrike">
                <a:solidFill>
                  <a:srgbClr val="ffffff"/>
                </a:solidFill>
                <a:latin typeface="Wingdings 3"/>
                <a:ea typeface="Wingdings 3"/>
              </a:rPr>
              <a:t>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qualità atte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) Bisogni espliciti </a:t>
            </a:r>
            <a:r>
              <a:rPr b="0" lang="en-US" sz="3600" spc="-1" strike="noStrike">
                <a:solidFill>
                  <a:srgbClr val="ffffff"/>
                </a:solidFill>
                <a:latin typeface="Wingdings 3"/>
                <a:ea typeface="Wingdings 3"/>
              </a:rPr>
              <a:t>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qualità richie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) Bisogni latenti </a:t>
            </a:r>
            <a:r>
              <a:rPr b="0" lang="en-US" sz="3600" spc="-1" strike="noStrike">
                <a:solidFill>
                  <a:srgbClr val="ffffff"/>
                </a:solidFill>
                <a:latin typeface="Wingdings 3"/>
                <a:ea typeface="Wingdings 3"/>
              </a:rPr>
              <a:t>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qualità laten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▪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l terzo bisogno indica la qualità dell’azienda e fa dell’azienda un’azienda vinc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32720" y="1557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IE PER LA QUALITA’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arsi su cliente e la sua fedeltà al march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à come leva per la soddisf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lioramento del prodo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involgimento delle risorse umane per migliorare qualità dei servizi e qualità dei prodot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7:08:55Z</dcterms:created>
  <dc:creator>Ferdinando Sabatino</dc:creator>
  <dc:description/>
  <dc:language>en-US</dc:language>
  <cp:lastModifiedBy>Ferdinando Sabatino</cp:lastModifiedBy>
  <dcterms:modified xsi:type="dcterms:W3CDTF">2011-05-03T18:25:44Z</dcterms:modified>
  <cp:revision>11</cp:revision>
  <dc:subject/>
  <dc:title>Toyotismo</dc:title>
</cp:coreProperties>
</file>